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0B95-F09F-4DF1-A70D-E2E2DF824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4AC2-268B-4EF4-86A9-76587D41E8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7CA6-FDC1-4FA7-8A7A-38AAAA54BE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130F-AD3A-4D13-ADE0-BF1C35D377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7ACD-63F6-49D9-AAE8-413A345A40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C96C-D278-46B4-9D4F-CC056F42D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EF63-32A6-4180-AEB3-9AE21BBB2E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EBDE-22E2-41D3-8F2E-230D7F7E1C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232-F82C-4BF5-B524-B29A0E2F58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398E-280F-4AFE-8E8C-C0B2484A1A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98CF-40A6-45DF-852A-8022608B9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CED2-AB04-40A0-AAED-E7BE7DD23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373E-3234-47C4-B67B-3F17B360D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985C-A65E-46D8-83DC-ED7CB3093B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54D3-2493-4EDB-9352-AE1B95E18E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16AB-1B86-4B5E-9782-9845161977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E071-2068-43B4-8416-4BB3BE40FE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30EA-9DF0-465E-B983-54E2C8EC69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3DA6-AB85-4328-8541-5A58DD6BC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2F83-A522-4574-B868-FC6B460DBF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E36D-DCB8-4EAC-81CE-DFC9519275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FCE0-86DF-460C-98E9-B2D33B809D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4F66-C8EF-4BEE-A015-640B106358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0AA5-5016-4CEA-B014-7C01D5359F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0D82-6B16-49BD-BB64-EE494EF5C3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83A0-A4E4-41E4-B4B3-76324190FE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36D4-5C76-4F91-9E4B-FBF5321592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6FED-E102-46DC-8D34-4F6DE6A502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A0A8-3665-4A4E-B5E9-8DF0D0727E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1907-5CB0-449C-B96A-D5BCEFCED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5CE-3CFF-445E-B9E2-7020114EDE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09FE-2B66-4EA1-9033-11EDD358FC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5A89-DB77-4A42-945E-377744BAC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8DFF-1A25-4A77-BE06-D5773B10A0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5631-7046-48A5-B9E5-E2C607A905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C945-A43D-43C8-B8FD-78BD818C39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E501-88D6-4A11-84FF-13C110A62F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44AD-8C28-410B-83D2-E8CCCBD7EE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C31-6BCD-41E3-93A3-AF61E9834B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67D5-0284-4CE9-AA1D-429B9057C9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BA5C-FAC3-4B31-A805-60630788FC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8F3F-4A6D-4B34-ABE1-C8D561DE63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C3FC-0526-46C2-9D20-4896472BAA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865D-2065-478C-8539-445436F0FA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B1D7-EF23-4A71-A410-C42D72AE38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909A-9EE7-44F5-B4BB-E35E3343C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77B0-4FDD-459B-A19D-F4E21F1D20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7EC1-F099-4FFA-97A4-50BB40FD3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8F77-7147-4B0D-A06E-17B193F4F3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21D4-B306-43E3-9184-65B063DC4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4BAC-12CF-45FE-9C2B-A874FB583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EDDE-28B4-4211-AA46-5FBEA16460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EEF-6FCD-4884-BBFA-E9EF9D92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688-0C69-4DDB-B181-AF2CDF84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3A9-CDD0-41D1-A8DE-EDB4B06E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53A-508B-48D3-8BDA-22C2C4A8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34A9-16A4-4091-A2C0-6D018093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A987-8C69-4374-B6ED-48C31A40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7EB4-1FEB-44F7-BA5F-FFE1FD82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EDB6-8949-4A04-91FD-B599B793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2682-1CCE-475A-B2F3-E85F92C7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257B-1049-4F9C-938E-6F927F29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5CCF-E248-4446-B271-89C91FC3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556-A6C4-4DBF-9414-9B695B4B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338D-70D9-413E-BC3A-05F249C0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5E9A-BABC-4657-A367-BBD9AC02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4F73-F7EF-4668-8268-1443A655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720F-0491-4DAF-9C82-E485565F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7849-45AE-4FF3-A466-E02DED5B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FD2-8D6A-4983-B021-77389054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893-F5AE-4D8D-8AA8-0813F8FC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198-F226-446E-ACB7-6A6D7450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BA4-6606-4D51-876B-41BE2362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46F-CD78-4F6D-AD26-05124C5E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F23-0720-4091-B547-9E434211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EFB-949B-480F-BDC5-0EBEC06C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6DBD-425D-4432-9E3B-54663B39A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BE9E-13E6-4E05-ACF5-9186D5E4C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1070280" y="1565280"/>
            <a:ext cx="9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38280" y="1565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 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0600" y="16858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atom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448240" y="156384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 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atom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089840" y="1535040"/>
            <a:ext cx="129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imple Bin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895760" y="31687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C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imple Bin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915920" y="31687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odium chlor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37:13Z</dcterms:created>
  <dc:creator>bmhs-delete</dc:creator>
  <dc:description/>
  <dc:language>en-US</dc:language>
  <cp:lastModifiedBy>bmhs-delete</cp:lastModifiedBy>
  <dcterms:modified xsi:type="dcterms:W3CDTF">2012-12-11T14:38:58Z</dcterms:modified>
  <cp:revision>1</cp:revision>
  <dc:subject/>
  <dc:title>Jeopardy</dc:title>
</cp:coreProperties>
</file>